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C8C98-5B99-445C-928F-73CD01BC0A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43C4D-9BE7-44A8-9073-9C0502E8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64414-2021-4C00-ACD3-A95FB76B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3F69B-686A-4E78-8D88-718916D405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80DF6-3F10-4981-BAED-DC8FEC95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5AC06-5943-4E1F-9560-D96F6AB7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F7798-E0A4-4616-ABB2-0950D0AB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39B54-1869-44EA-9D78-9EFE3BAC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0FB29-6D1C-406A-8FE8-87E59382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B253E-EEA9-48EE-A130-463B16F1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3850C-E884-4E05-9F0D-8E285CF4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0B7BF-257B-49BD-AD9D-D5108D58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01A5-A284-44F0-9843-723288437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Biomass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www.onestopclil.com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opyright Macmillan Publishers Ltd 2008. Animation licensed by The Science Museum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 these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biomas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is it used to make electricity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add to climate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and answer the questions from slide 1. (Make note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your answers in grou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match the two parts of each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use the prompts to write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acmillan Staff Member</cp:lastModifiedBy>
  <dcterms:modified xsi:type="dcterms:W3CDTF">2008-09-15T08:05:59Z</dcterms:modified>
  <cp:revision>35</cp:revision>
  <dc:subject/>
  <dc:title>  </dc:title>
</cp:coreProperties>
</file>